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7BD-7364-47BC-8160-11D4CEC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EBF-BA30-400D-8A8F-19E0E428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0BC-B852-45D2-B154-2062403E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823-F2C2-41FC-950F-9D93F34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6E8-B395-40A5-B84F-22ED8AB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0F3-A12D-426D-A883-4F3E26D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6B0-A6C8-4921-856A-0C03B77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58B-5465-43C6-B203-A2A8899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4A4-6FAD-4A77-9070-D084B9F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9D5-75F0-4193-8720-F252AC4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CAE-C662-451D-A8EB-5733B39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CEC-ACB0-4B22-843F-8AB9AF7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D50-E985-4C00-A1D5-F164F828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1944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042560" y="148428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7720"/>
            <a:ext cx="190800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 chiama EMIGR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ndo le persone di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e se ne vanno all’ ester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vere e 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333360"/>
            <a:ext cx="2160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 persone vann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vere in un altro 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6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549360"/>
            <a:ext cx="1800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v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105264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700280"/>
            <a:ext cx="151128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ggire da situazio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empio guerr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1125360"/>
            <a:ext cx="8654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133720"/>
            <a:ext cx="280836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 chiama EMIGR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350028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3573360"/>
            <a:ext cx="115272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Italia arriv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igra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876720" y="4653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5589720"/>
            <a:ext cx="1008000" cy="93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472428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8000" y="5661000"/>
            <a:ext cx="79200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042560" y="4724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229360"/>
            <a:ext cx="2195640" cy="143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i italiani sono stati emigranti in mol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i e anche se meno di una vol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 sono anche og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79700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3860640"/>
            <a:ext cx="165564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16360" y="4724280"/>
            <a:ext cx="50328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6381720"/>
            <a:ext cx="863640" cy="476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5445000"/>
            <a:ext cx="792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4653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5013360"/>
            <a:ext cx="12952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9:56:10Z</dcterms:created>
  <dc:creator>PC01</dc:creator>
  <dc:description/>
  <dc:language>en-US</dc:language>
  <cp:lastModifiedBy>PC01</cp:lastModifiedBy>
  <dcterms:modified xsi:type="dcterms:W3CDTF">2016-12-05T10:24:00Z</dcterms:modified>
  <cp:revision>3</cp:revision>
  <dc:subject/>
  <dc:title>Diapositiva 1</dc:title>
</cp:coreProperties>
</file>